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7FED-20BD-4B98-83AB-004C354AF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E678-3AD3-4915-856A-53D7731DC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2EF2-6FD9-4792-A80E-4A65323D6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DED1-D332-42FA-ACE0-936D3A7E8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30278-2AB3-4B16-8D2F-7BF590682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5B609-B070-41B5-BF86-0BD277706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50923-678C-4613-A479-8ADC273BC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FEBDA-859A-43AA-93F4-57A77A8A8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02A8E-85FC-4F0D-A862-11D6223FC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314D5-9281-4E47-8583-EF588F7D0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E6E1C-64DB-4250-8EA1-715FA579D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4A0C-C5B4-426E-B83F-64BEC2A6A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CABC7-3A46-4A0C-A6B8-4F4647151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22B35-0580-495A-AEB6-18F82785B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6F316-C9E0-4D8A-99B3-91A605277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4B97E-0C42-4A24-B744-6A69868E7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FE4A0-6F78-4F68-AE39-455257505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E45D-18BB-4E3A-AA27-9629AC762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D0E5-DB61-432A-8506-87ADDE0F1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0421-3B33-409B-A871-F3D711E1E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B674-F589-4375-A0FF-E87844D8D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CDBB-F1DA-4CD8-B437-D6782E674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664D-4F11-4DCA-A3E1-8072F1598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5A3E-8E42-4B7D-A17C-B3F3C920C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0FD08-9313-4AA1-BB77-1803172E20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50500-0E9A-4780-9432-A81EFAE5D1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1</a:t>
            </a: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장 </a:t>
            </a:r>
            <a:br>
              <a:rPr sz="4800"/>
            </a:b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한국교육의 방향과 전략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사정과 교육과정 운영 전략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Zone of Proximal Development: ZPD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Vygotsky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Piaget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의 차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동적 접근방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호작용의 중요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비계설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높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효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늘날 미국의 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훈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기존의 지능검사에 대한 재해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아동의 가능성 탐색과 적용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일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국민회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을 바꾸는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제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풍부한 인간성 육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의 중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창의적 재능 개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중심의 가치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학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 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부과학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2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세기 교육신생플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중점 전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레인보우 플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영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8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교육개혁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9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이후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노동당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보수당과 함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 정당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파시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국유화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회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9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대처 정권에 패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재집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기회의 확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잠재능력의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탁월한 학업성취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세계 교육개혁의 시사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법 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을 통한 지속적이고 체계적인 지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보장과 상향 평등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간의 학력격차 최소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의 권리확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의 자율권과 책무성 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취약 학교의 지원과 문책 공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주요 문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제적 경쟁력 강화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주도적 수업 기회 확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 위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의 동기부여 노력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교육 문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을 위한 다면적 노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개혁의 후유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정지표와 교육지표의 분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 보장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생교육자 인식 고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교육의 내실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과 책무성 공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동체적 접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지역사회의 동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민도 인식 수준 함양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 원칙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평등성과 수월성 보장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율성과 책무성 제고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민주성과 전문성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주성의 존중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논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소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와 학생의 발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적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운영의 효율성 제고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지출성의 생산성 보장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원 및 연구인력에 대한 우선적 투자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선택과 집중을 통한 경쟁력 강화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규제의 질적 적합성 함양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행정기관의 역할과 기능의 재정립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장기계획에 의한 일관성 있는 정책 추진 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국가 경쟁력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의 역할과 위상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교육의 방향과 원칙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교원의 사회경제적 지위 향상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가정교육과 예절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경제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Zone of Proximal Development: ZPD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와 인간의 일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증류수와 불순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과 학교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역할에 대하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사회의 변화와 교육적 요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지식기반 사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생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학업성취에 대한 태도와 감성의 변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계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인적자원 개발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국가경쟁력 재고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국의 아동낙오방지법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시장 개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고령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지정책의 변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숙된 민주사회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postmodernism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초•중등교육법의 최근 재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학업성취 향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의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4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년 장애아교육진흥법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: IDEIA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서류업무의 간소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부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기목표 삭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괄적인 다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계획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 높은 교사와 복수자격 취득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선별 및 교육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 전에 교육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assessment)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o Child Left Behind: 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. 196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제정된 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교육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Elementary and Secondary Education Act: ESEA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최근 개정판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2001, 2002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정 목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준 척도의 제시와 함께 책무성 있는 계획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효과가 검증된 프로그램의 사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의 교직 수행능력을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교육에서 아동간의 학력격차 최소화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제정 배경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미 헌법에는 교육에 대한 조항이 없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수행능력은 교육과정 운영과 직결됨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경제논리보다 학교교육의 가치를 보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조직은 발전을 전제한 단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많은 교육자를 놀라게 했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AYP (Adequate Yearly Progress):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주와 학교간 경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능력 향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학생의 성적 행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외국 학생과의 경쟁에서 뒤지고 있음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AYP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보조 수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발전 계획 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 보충수업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정 계획안 제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관리 구조 수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선 이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및 직원 이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201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까지 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과학 등의 모든 교과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굴림"/>
              </a:rPr>
              <a:t>특수교육에 제시하는 시사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모든 학생을 위한 양질의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유능한 교사 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외가 없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중복장애의 탄력적 적용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본주의와 기능주의의 마찰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00:22:45Z</dcterms:created>
  <dc:creator>XPuser</dc:creator>
  <dc:description/>
  <dc:language>en-US</dc:language>
  <cp:lastModifiedBy>XPuser</cp:lastModifiedBy>
  <dcterms:modified xsi:type="dcterms:W3CDTF">2008-09-17T02:17:35Z</dcterms:modified>
  <cp:revision>9</cp:revision>
  <dc:subject/>
  <dc:title>제 1장  21세기 한국교육의 방향과 전략</dc:title>
</cp:coreProperties>
</file>